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E41-6329-4E0C-959D-A7EF8300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DCC-D7B0-4DED-BE0E-7EE5A8D3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809-28BC-4178-9266-F4919744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1EC-CB88-41F1-8DB8-CAB9E6CA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F49-AFA8-41F3-B895-9ECAE87E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2F8-6171-4C69-AFD7-953A465F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29F-F3C2-403A-8DC6-4BF374F6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60B-7D10-4FC0-B7AE-18ECD957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F45-79CC-490C-8F99-4BBBE6C7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29B-FD3B-4A1B-A362-0495C7A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F76-04E1-459C-860B-851ACB3B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602-4BE2-4339-9CFD-A8812F5F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7A39-B92C-4A8E-B25E-16C8D913F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 Karen Mori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62720" y="4368960"/>
            <a:ext cx="2971800" cy="2489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95680" y="5486400"/>
            <a:ext cx="3619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aren Moriy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05120" y="2819520"/>
            <a:ext cx="54100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ustral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Table Of 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amous Land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amous Austral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770, </a:t>
            </a:r>
            <a:r>
              <a:rPr b="0" lang="en-US" sz="2800" spc="-1" strike="noStrike">
                <a:solidFill>
                  <a:srgbClr val="ff8a3b"/>
                </a:solidFill>
                <a:latin typeface="Arial"/>
              </a:rPr>
              <a:t>James C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nd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any Bay and declared  poss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,began to colon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ed Kingdom claimed the western part of Australia in 182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declared  independence from the United Kingdom  in 19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independence, Australia took part in many  battles of the 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0462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food was based on meats and vegetables of  traditional British 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2666880" cy="2400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5146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have seventeen heritages are registered on UNESCO’s World Heritage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 natural heri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Gondwana Rainforests of Austra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Great Barrier 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 cultural herit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Sydney Opera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 mixed  heri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Uluru-Kata  Tjuta National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381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ic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ug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stralian rules foot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2674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FAMOUS LAND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2895480" cy="187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2587680" cy="176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177156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809880" y="3733920"/>
            <a:ext cx="1965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Famous Austral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le Kidman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res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Thor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ympic sw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2:35:26Z</dcterms:created>
  <dc:creator>student</dc:creator>
  <dc:description/>
  <dc:language>en-US</dc:language>
  <cp:lastModifiedBy>student</cp:lastModifiedBy>
  <dcterms:modified xsi:type="dcterms:W3CDTF">2009-07-10T02:58:01Z</dcterms:modified>
  <cp:revision>4</cp:revision>
  <dc:subject/>
  <dc:title>Slide 1</dc:title>
</cp:coreProperties>
</file>