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342-9A84-4F27-B76A-06989EEF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05C-EAD7-43C3-A588-C27172D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C42-C3AF-4454-9D34-9CD7F2E5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DF6-5771-4C9B-9D63-AD9A43CA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1516-9500-4147-8B6F-AD57836D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1436-8C32-4279-AA52-0A635B3A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558-DA86-4287-A633-0E80137A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3AC-CDA9-4B64-B57E-1489BE1D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9E4-7DFE-4544-8931-926D8C6D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502-0977-498B-8B56-88792074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03A-A285-4E65-B9FA-9DE939D7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6BE-6280-403A-8E62-8DB11922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95A8-B9D1-43B2-92F2-C1EC959AD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 Karen Moriy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62720" y="4368960"/>
            <a:ext cx="2971800" cy="248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95680" y="5486400"/>
            <a:ext cx="36198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Karen Moriy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05120" y="2819520"/>
            <a:ext cx="541008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ustral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Table Of Cont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770, </a:t>
            </a:r>
            <a:r>
              <a:rPr b="0" lang="en-US" sz="2800" spc="-1" strike="noStrike">
                <a:solidFill>
                  <a:srgbClr val="ff8a3b"/>
                </a:solidFill>
                <a:latin typeface="Arial"/>
              </a:rPr>
              <a:t>James Co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nd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any Bay and declared  poss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,began to colon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ited Kingdom claimed the western part of Australia in 182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declared  independence from the United Kingdom  in 19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independence, Australia took part in many  battles of the U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0462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food was based on meats and vegetables of  traditional British 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2666880" cy="2400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57800" y="3733920"/>
            <a:ext cx="25146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have seventeen heritages are registered on UNESCO’s World Heritage l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 natural heri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ondwana Rainforests of Austral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Great Barrier Re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  cultural herita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Sydney Opera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 mixed  heri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8a3b"/>
                </a:solidFill>
                <a:latin typeface="Arial"/>
              </a:rPr>
              <a:t>Uluru-Kata  Tjuta National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rick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ug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ustralian rules foot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2674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LAND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562720" y="1600200"/>
            <a:ext cx="2895480" cy="1873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2587680" cy="1765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629400" y="380988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809880" y="3733920"/>
            <a:ext cx="1965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Famous Austral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ole Kidma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re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n Thor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ympic swi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1828800" cy="2438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2:35:26Z</dcterms:created>
  <dc:creator>student</dc:creator>
  <dc:description/>
  <dc:language>en-US</dc:language>
  <cp:lastModifiedBy>student</cp:lastModifiedBy>
  <dcterms:modified xsi:type="dcterms:W3CDTF">2009-07-10T02:58:01Z</dcterms:modified>
  <cp:revision>4</cp:revision>
  <dc:subject/>
  <dc:title>Slide 1</dc:title>
</cp:coreProperties>
</file>