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4A3-D0D1-4351-AFA2-4325BAF1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A58-ABD6-4B7C-8230-AD27EEEE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CB0-35A7-4570-B2A1-6BBCE38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FAF-0613-493C-98E5-94966A15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8E6-3D1E-4251-BC45-37C31652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387-EA0B-47A4-A006-3223472D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B9D-AF20-4468-89F2-6DB2F5F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D3E-0D76-43D7-BFE3-403DD7A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410-9011-49CC-A4E9-36D6771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F3C-5F09-4105-8386-7062F16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9AE-D515-4D87-89A7-FE7C530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40E-2176-43F9-8AB2-F06F998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03C7-18E7-4C0C-808E-D07894757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 Karen Mori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4368960"/>
            <a:ext cx="2971800" cy="24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95680" y="5486400"/>
            <a:ext cx="3619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ren Moriy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tral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0, </a:t>
            </a:r>
            <a:r>
              <a:rPr b="0" lang="en-US" sz="2800" spc="-1" strike="noStrike">
                <a:solidFill>
                  <a:srgbClr val="ff8a3b"/>
                </a:solidFill>
                <a:latin typeface="Arial"/>
              </a:rPr>
              <a:t>James C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 Bay and declared  poss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,began to colon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Kingdom claimed the western part of Australia in 18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eclared  independence from the United Kingdom  in 19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ependence, Australia took part in many  battles of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462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ood was based on meats and vegetables of  traditional British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2666880" cy="24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14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have seventeen heritages are registered on UNESCO’s World Heritag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 natural heri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ondwana Rainforests of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reat Barrier 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 cultural heri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Sydney Oper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 mixed  heri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Uluru-Kata  Tjuta Nation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stralian rules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18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587680" cy="17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809880" y="3733920"/>
            <a:ext cx="196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le Kidma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r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Thor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mpic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2:35:26Z</dcterms:created>
  <dc:creator>student</dc:creator>
  <dc:description/>
  <dc:language>en-US</dc:language>
  <cp:lastModifiedBy>student</cp:lastModifiedBy>
  <dcterms:modified xsi:type="dcterms:W3CDTF">2009-07-10T02:58:01Z</dcterms:modified>
  <cp:revision>4</cp:revision>
  <dc:subject/>
  <dc:title>Slide 1</dc:title>
</cp:coreProperties>
</file>